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7E1-C1A1-4004-81D3-6E03B101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4BE-BA75-4CC5-B3BC-F07FB48E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F89-5E0A-4F20-95E0-7199C1E4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D80-64F5-42CC-B053-2AEF1657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FD2-4014-4C25-9C37-283C9A09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367-0F7C-4A78-A662-9279E7BA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52B-76FC-49C1-B8E8-E1C1A4C1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E68-5E42-4D8E-8BF7-066D4AA4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F89-DA13-4D26-AB0E-1F72DFA4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DF3-77F8-41D4-A587-CFE5A707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8EE-724C-4CFD-8A14-943DC88A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1FF-E8E6-4E27-AA6D-00E98B46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09D8-A6DD-48EE-BFDE-B899D2363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Mickiewicz „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rodki stylisty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3514680"/>
        </p:xfrm>
        <a:graphic>
          <a:graphicData uri="http://schemas.openxmlformats.org/drawingml/2006/table">
            <a:tbl>
              <a:tblPr/>
              <a:tblGrid>
                <a:gridCol w="2743200"/>
                <a:gridCol w="2595600"/>
                <a:gridCol w="28908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kła jak lekki powiew wietrzy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nagłe i niespodziewane zniknięcie dziewczyn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33224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 błędny krok nie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/ 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ek i zrezygnowanie chłopca widoczne w sposobie jego poruszania się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6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 „Błędnymi strzela oczyma;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ne spojrzenie bohater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34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ewicza piękność wytrys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 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, młodość, zwinność i delikatność nimf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6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mgła lekka, tak lekkie stro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wiały postać niebieską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dziewczyna ma tak delikatną suknię, jakby była bez odzieni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Świtezianka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3833640"/>
        </p:xfrm>
        <a:graphic>
          <a:graphicData uri="http://schemas.openxmlformats.org/drawingml/2006/table">
            <a:tbl>
              <a:tblPr/>
              <a:tblGrid>
                <a:gridCol w="3322800"/>
                <a:gridCol w="2163600"/>
                <a:gridCol w="27432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ięknych licach topi oczy,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zakochany wzrok strzelca, w którym widać zachwyt urodą kobiet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083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ami usta 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żane gon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żywie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piękno pierwszego pocałunku i kolor ust ukochan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tulacj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Świetn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robot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 dobry początek </a:t>
            </a: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MA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NÓWAO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3298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łopiec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ękn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ło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 i wiek młodzieńc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62916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mokry jaskier wschodzi na bagni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jak niespodziewanie dziewczyna pojawia się na spotkaniach ze strzelcem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586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ognik nocny przepada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nagły i tajemniczy sposób znikania kochanki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78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ęste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eszczyn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dkreśla obfitość roślinności, uplastycznia opis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r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łoko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jawnia stosunek dziewczyny do propozycji młodzieńca i zdradza  jej nieufność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386568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icze wdzięki w mężczyzny głosi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 sercu lisie zamiary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za pięknymi słowami mężczyzny może się kryć podstę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95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ekiel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otęg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odkreśla sp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b zaklinania się młodzieńca na wszystko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5T16:19:55Z</dcterms:created>
  <dc:creator>Dorota</dc:creator>
  <dc:description/>
  <dc:language>en-US</dc:language>
  <cp:lastModifiedBy>Dorota</cp:lastModifiedBy>
  <dcterms:modified xsi:type="dcterms:W3CDTF">2021-09-18T12:47:37Z</dcterms:modified>
  <cp:revision>5</cp:revision>
  <dc:subject/>
  <dc:title>Adam Mickiewicz „Świtezianka”</dc:title>
</cp:coreProperties>
</file>